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592-894E-4D5F-8C0C-FBD6516A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4DD-25AA-4A58-878C-CE86E088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B3F-22B5-44FE-9E6F-C267D32C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205-0A66-43B1-851C-7EE53F32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3BF-8A80-4350-88F6-86B800D7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F5D-493A-43B7-8E2E-95BD6D30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0F3-CDD4-4643-BDB9-41C3E3DD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3870-FB53-4F65-8046-36A8A680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781-476A-4BDE-AB7D-01E23295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5A6-591A-4B7D-841C-375B1E49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4C5-A312-4908-8B56-D3768B28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9B4-97CC-428A-AEA4-480D63D2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375F-23F0-4A59-8DA5-F45D75344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62320" y="22096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2819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erary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 rot="10854600">
            <a:off x="2437200" y="4590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 Andrea, Victoria, Cortney, Chris, Maj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21337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05320" y="15238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28195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rn and needles and buttons and the toady frog and the half knit sweater flew all over the stoop like your guts do after you have been bit by a hoop snake. Chapter-1 Pg: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05320" y="1371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108240"/>
            <a:ext cx="426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powerful hissing music whistling from a wagon that was throwing fog and songs out of a row of pipes, sounding so hot and hard and pointy that you’d’ve thought you’d took a knife and were scratching at something deep inside your ear. Chapter-9 Pg: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5909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505320" y="14479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5909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fell all over ourselves and couldn’t barley stand up. Chapter-1 Pg: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9880" y="1447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et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32464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ammy gave a long pulled out grown when the mesmerist and most of the folks in the crowed moaned out,      “Sam-u-well, Sam-u-well, Sam-u-well!”  Chapter-9 Pg: 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362320" y="2286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657600" y="1523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3246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hair was all matted up like a birds nest and his clothes were so dirty that not even Cooter would’ve been caught dead in ‘em. Chapter-10 Pg: 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91120" y="14479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324648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it had mashed up against me it I could feel its heart flopping around in its chest like a fish that had got throwed up on the land. Chapter-19 Pg: 2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895480" y="2209680"/>
            <a:ext cx="3200400" cy="2000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90920" y="1371600"/>
            <a:ext cx="3733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5410080"/>
            <a:ext cx="706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1523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932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123rf.com/photo_611641_botanical-green-border-made-of-ivy-leav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9:46:04Z</dcterms:created>
  <dc:creator>SBH</dc:creator>
  <dc:description/>
  <dc:language>en-US</dc:language>
  <cp:lastModifiedBy>SBH</cp:lastModifiedBy>
  <dcterms:modified xsi:type="dcterms:W3CDTF">2011-05-21T21:34:05Z</dcterms:modified>
  <cp:revision>3</cp:revision>
  <dc:subject/>
  <dc:title>Slide 1</dc:title>
</cp:coreProperties>
</file>